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5D63-F2FB-45DD-8FFD-232261B44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ACA5-CAAB-4C23-B5A8-6B6D0300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84B1-16A6-4274-889E-FDB50C39B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EB9A-0844-42BB-BFDF-3735F30AB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D67E-A704-4E6F-8FC3-4A98A017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3B6B-61BA-4AC8-A0D7-7509E6DF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0D0F-2E47-4E8D-8D74-2F369A90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C95E-B9C9-45CB-A4F2-7206F14F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E54D-4722-4FEA-AA01-B593EC1C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C547-F91D-4C60-9927-A83AD6BB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08DF-21E7-44CB-88E9-67B72E9D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FD64-2EC7-4AE3-867F-BF7AC35C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1C1B-1A07-49AA-9CC0-C54CF2E3A11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google.co.uk/imgres?imgurl=http://pictures.directnews.co.uk/liveimages/REBECCA%2BADLINGTON_1812_18755648_0_0_7016909_300.jpg&amp;imgrefurl=http://news.shoe-shop.com/news/1982/adlington-gets-her-choos/&amp;h=300&amp;w=300&amp;sz=21&amp;tbnid=Bh99lvxHubk_dM:&amp;tbnh=116&amp;tbnw=116&amp;prev=/images%3Fq%3DRebecca%2BAdlington&amp;hl=en&amp;usg=__GqVwhEvr_Fo4QbsVC26hJT59TNI=&amp;ei=i-PxSsWCOILSjAe0komWAQ&amp;sa=X&amp;oi=image_result&amp;resnum=5&amp;ct=image&amp;ved=0CBkQ9QEwBA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6" descr="http://upload.wikimedia.org/wikipedia/commons/5/5a/2006_Olympics_Opening_Ceremony.jpg"/>
          <p:cNvPicPr/>
          <p:nvPr/>
        </p:nvPicPr>
        <p:blipFill>
          <a:blip r:embed="rId1"/>
          <a:stretch/>
        </p:blipFill>
        <p:spPr>
          <a:xfrm>
            <a:off x="0" y="0"/>
            <a:ext cx="9225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428760" y="225360"/>
            <a:ext cx="8001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alibri"/>
              </a:rPr>
              <a:t>The Olympics are coming to Lond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http://image.cdnl3.xosnetwork.com/pics13/200/VV/VVOJHKAHQVCCEXG.200607252302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4"/>
          <p:cNvSpPr/>
          <p:nvPr/>
        </p:nvSpPr>
        <p:spPr>
          <a:xfrm>
            <a:off x="500040" y="428760"/>
            <a:ext cx="7000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ffffff"/>
                </a:solidFill>
                <a:latin typeface="Calibri"/>
              </a:rPr>
              <a:t>Olympic track dimensions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357200" y="2000160"/>
            <a:ext cx="6786720" cy="3786120"/>
            <a:chOff x="1357200" y="2000160"/>
            <a:chExt cx="6786720" cy="3786120"/>
          </a:xfrm>
        </p:grpSpPr>
        <p:sp>
          <p:nvSpPr>
            <p:cNvPr id="89" name="Oval 5"/>
            <p:cNvSpPr/>
            <p:nvPr/>
          </p:nvSpPr>
          <p:spPr>
            <a:xfrm>
              <a:off x="1357200" y="2000160"/>
              <a:ext cx="3492720" cy="37861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6"/>
            <p:cNvSpPr/>
            <p:nvPr/>
          </p:nvSpPr>
          <p:spPr>
            <a:xfrm>
              <a:off x="4651200" y="2000160"/>
              <a:ext cx="3492720" cy="37861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7"/>
            <p:cNvSpPr/>
            <p:nvPr/>
          </p:nvSpPr>
          <p:spPr>
            <a:xfrm>
              <a:off x="2954160" y="2000160"/>
              <a:ext cx="3392640" cy="37861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Box 9"/>
          <p:cNvSpPr/>
          <p:nvPr/>
        </p:nvSpPr>
        <p:spPr>
          <a:xfrm>
            <a:off x="2928960" y="3571920"/>
            <a:ext cx="157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70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0"/>
          <p:cNvSpPr/>
          <p:nvPr/>
        </p:nvSpPr>
        <p:spPr>
          <a:xfrm>
            <a:off x="4071960" y="1428840"/>
            <a:ext cx="157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90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680" y="4785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ill everyone fit????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http://blog.brainstormbrand.com/wp-content/uploads/2007/06/olympics_2012.jpg"/>
          <p:cNvPicPr/>
          <p:nvPr/>
        </p:nvPicPr>
        <p:blipFill>
          <a:blip r:embed="rId1"/>
          <a:stretch/>
        </p:blipFill>
        <p:spPr>
          <a:xfrm>
            <a:off x="2714760" y="1428840"/>
            <a:ext cx="380052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://www.ervinter.com/wp-content/uploads/2008/08/beijing_olympic_opening_ceremony200808080726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428760" y="225360"/>
            <a:ext cx="7143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b0f0"/>
                </a:solidFill>
                <a:latin typeface="Calibri"/>
              </a:rPr>
              <a:t>There will be a big opening ceremon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ttp://upload.wikimedia.org/wikipedia/commons/e/e3/Olympic_flame_at_opening_ceremony.jpg"/>
          <p:cNvPicPr/>
          <p:nvPr/>
        </p:nvPicPr>
        <p:blipFill>
          <a:blip r:embed="rId1"/>
          <a:stretch/>
        </p:blipFill>
        <p:spPr>
          <a:xfrm>
            <a:off x="0" y="0"/>
            <a:ext cx="959976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3071880" y="4500720"/>
            <a:ext cx="714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alibri"/>
              </a:rPr>
              <a:t>With firework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www.inentertainment.co.uk/wp-content/uploads/2008/08/2008-olympics-opening-ceremony-will-you-bother-watching-i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428760" y="225360"/>
            <a:ext cx="7143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00"/>
                </a:solidFill>
                <a:latin typeface="Calibri"/>
              </a:rPr>
              <a:t>and a real party atmospher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newsimg.bbc.co.uk/media/images/44872000/jpg/_44872641_olsson226.jpg"/>
          <p:cNvPicPr/>
          <p:nvPr/>
        </p:nvPicPr>
        <p:blipFill>
          <a:blip r:embed="rId1"/>
          <a:stretch/>
        </p:blipFill>
        <p:spPr>
          <a:xfrm>
            <a:off x="0" y="0"/>
            <a:ext cx="473544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4">
            <a:hlinkClick r:id="rId2"/>
          </p:cNvPr>
          <p:cNvSpPr/>
          <p:nvPr/>
        </p:nvSpPr>
        <p:spPr>
          <a:xfrm>
            <a:off x="155520" y="-351000"/>
            <a:ext cx="7430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155520" y="-351000"/>
            <a:ext cx="7430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http://pictures.directnews.co.uk/liveimages/REBECCA+ADLINGTON_1812_18755648_0_0_7016909_300.jpg"/>
          <p:cNvPicPr/>
          <p:nvPr/>
        </p:nvPicPr>
        <p:blipFill>
          <a:blip r:embed="rId3"/>
          <a:stretch/>
        </p:blipFill>
        <p:spPr>
          <a:xfrm>
            <a:off x="4714920" y="0"/>
            <a:ext cx="4429080" cy="4429080"/>
          </a:xfrm>
          <a:prstGeom prst="rect">
            <a:avLst/>
          </a:prstGeom>
          <a:ln w="0">
            <a:noFill/>
          </a:ln>
        </p:spPr>
      </p:pic>
      <p:sp>
        <p:nvSpPr>
          <p:cNvPr id="62" name="TextBox 7"/>
          <p:cNvSpPr/>
          <p:nvPr/>
        </p:nvSpPr>
        <p:spPr>
          <a:xfrm>
            <a:off x="4714920" y="4429080"/>
            <a:ext cx="4429080" cy="283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 athletes will enter the Olympic stadium as part of the opening ceremo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5" name="Picture 2" descr="File:1896 Olympic opening ceremony.jpg"/>
          <p:cNvPicPr/>
          <p:nvPr/>
        </p:nvPicPr>
        <p:blipFill>
          <a:blip r:embed="rId1"/>
          <a:stretch/>
        </p:blipFill>
        <p:spPr>
          <a:xfrm>
            <a:off x="357120" y="142920"/>
            <a:ext cx="8215560" cy="65372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"/>
          <p:cNvSpPr/>
          <p:nvPr/>
        </p:nvSpPr>
        <p:spPr>
          <a:xfrm>
            <a:off x="928800" y="5286240"/>
            <a:ext cx="6929280" cy="14644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At the first modern Olympic Games in 1896 in Athens there were only 250 participating athlet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9" name="Picture 4" descr="http://www3.pictures.gi.zimbio.com/Olympics+Opening+Ceremony+lFJqGuPC3O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928800" y="5286240"/>
            <a:ext cx="6929280" cy="1464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At the 2008 Olympic Games in Beijing 11,028 people from 204 countries took par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3" name="Picture 2" descr="http://www.yenra.com/wiki/images/thumb/336px-Us-olympic-team-parade-outfit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857160" y="5500800"/>
            <a:ext cx="6929640" cy="100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It is hoped that at the 2012 Olympic Games in London 12,000 athletes will take par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http://i.dailymail.co.uk/i/pix/2006/07/sebcoeST040706_228x305.jpg"/>
          <p:cNvPicPr/>
          <p:nvPr/>
        </p:nvPicPr>
        <p:blipFill>
          <a:blip r:embed="rId1"/>
          <a:stretch/>
        </p:blipFill>
        <p:spPr>
          <a:xfrm>
            <a:off x="0" y="0"/>
            <a:ext cx="512604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http://www.babble.com/CS/blogs/famecrawler/2008/05/23-End%20of%20Month/david-beckham.jpg"/>
          <p:cNvPicPr/>
          <p:nvPr/>
        </p:nvPicPr>
        <p:blipFill>
          <a:blip r:embed="rId2"/>
          <a:stretch/>
        </p:blipFill>
        <p:spPr>
          <a:xfrm>
            <a:off x="4476600" y="0"/>
            <a:ext cx="46674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5"/>
          <p:cNvSpPr/>
          <p:nvPr/>
        </p:nvSpPr>
        <p:spPr>
          <a:xfrm>
            <a:off x="3857760" y="3317760"/>
            <a:ext cx="5286240" cy="39344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Seb Coe and David Beckham are concerned that there will not be enough room on the track for all the participating athletes in the 2012 g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loud Callout 6"/>
          <p:cNvSpPr/>
          <p:nvPr/>
        </p:nvSpPr>
        <p:spPr>
          <a:xfrm>
            <a:off x="214200" y="642960"/>
            <a:ext cx="2500560" cy="1285920"/>
          </a:xfrm>
          <a:prstGeom prst="cloudCallout">
            <a:avLst>
              <a:gd name="adj1" fmla="val 24837"/>
              <a:gd name="adj2" fmla="val 73402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>
            <a:off x="785880" y="92556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ill everybody f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loud Callout 8"/>
          <p:cNvSpPr/>
          <p:nvPr/>
        </p:nvSpPr>
        <p:spPr>
          <a:xfrm>
            <a:off x="3357720" y="0"/>
            <a:ext cx="2571480" cy="857160"/>
          </a:xfrm>
          <a:prstGeom prst="cloudCallout">
            <a:avLst>
              <a:gd name="adj1" fmla="val 50847"/>
              <a:gd name="adj2" fmla="val 61314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9"/>
          <p:cNvSpPr/>
          <p:nvPr/>
        </p:nvSpPr>
        <p:spPr>
          <a:xfrm>
            <a:off x="3857760" y="2142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on’t ask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20:15:37Z</dcterms:created>
  <dc:creator>Gail</dc:creator>
  <dc:description/>
  <dc:language>en-US</dc:language>
  <cp:lastModifiedBy> </cp:lastModifiedBy>
  <dcterms:modified xsi:type="dcterms:W3CDTF">2010-06-12T12:03:24Z</dcterms:modified>
  <cp:revision>8</cp:revision>
  <dc:subject/>
  <dc:title>Slide 1</dc:title>
</cp:coreProperties>
</file>